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0175-EFC4-4464-A51F-04145761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B15-1FE8-488E-BEB3-00EA124F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B14-6BE1-4A37-858F-44CFC1CF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AD6-339A-4FF0-B293-AFD052F7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A669-3C90-46F2-9094-5B5F6A1C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7813-6D80-434B-B8E5-89CE8EA3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58B5-FF49-4704-9F61-BB33E010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6B9F-66EC-4E65-88C5-1B568CBD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D7C6-D8D2-48D3-A608-F6257A3C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ADA5-0EB7-4D70-8C7A-DB9D25E7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FF1F-5815-4D03-B228-5F3645E8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C9A-B682-491F-BD2F-6049AB6A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D2F7-EA58-450F-9215-987CC0CD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C36B-E4A8-4621-9DC6-3328A978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CA84-7E38-414F-9B63-70D061B0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B995-8B3E-4FF7-8D75-74818B6F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B373-9B9E-4671-BCDD-EBB0798A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096-88E1-434E-B336-B9812E76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FC5-72E9-4050-8434-C2E58A65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75F-9DE1-49CA-A26F-45C74C4B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CBE-52D5-4588-811B-3126F3E7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C46-ABA2-48AE-9548-87275EDE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982-384E-4431-9104-AA7EC557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1CC-4171-4447-8F80-08B390AE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36BA-D09C-45EC-98D5-A17295DE937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5B10-7AC1-49E5-8874-0D79B8C8CCC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econdlife.com/" TargetMode="External"/><Relationship Id="rId2" Type="http://schemas.openxmlformats.org/officeDocument/2006/relationships/hyperlink" Target="http://www.whyville.net/smmk/nice" TargetMode="External"/><Relationship Id="rId3" Type="http://schemas.openxmlformats.org/officeDocument/2006/relationships/hyperlink" Target="http://www.virtualworldsreview.com/" TargetMode="External"/><Relationship Id="rId4" Type="http://schemas.openxmlformats.org/officeDocument/2006/relationships/hyperlink" Target="http://www.virtualworldsreview.com/" TargetMode="External"/><Relationship Id="rId5" Type="http://schemas.openxmlformats.org/officeDocument/2006/relationships/hyperlink" Target="http://www.virtualworldsreview.com/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6000" y="2060640"/>
            <a:ext cx="67658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ffff00"/>
                </a:solidFill>
                <a:latin typeface="Arial"/>
              </a:rPr>
              <a:t>Go Cyber</a:t>
            </a:r>
            <a:endParaRPr b="0" lang="en-US" sz="1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reating Your Own Cyber-Community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The Culmination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329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orm into groups of 4, and go through this process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1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Discuss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all of your different respon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ublis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a collection of these, and place your 1</a:t>
            </a:r>
            <a:r>
              <a:rPr b="1" lang="en-US" sz="28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draft of a CyberCommunity on a large shee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3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hop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for ideas from the other groups in the roo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Refine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and finish off your CyberCommunity plan back in your own gro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90200" y="282600"/>
            <a:ext cx="74134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The Scenario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 cyber-community is a group of people who often share common interests, and who interact onl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hey sometimes construct a virtual world, and encourage others who share these common interests to join the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yber-communities fulfil specific needs for the people who are involved with them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Many cyber-communities already exist around the worl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757080" y="-747720"/>
            <a:ext cx="10585440" cy="8640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35280" y="0"/>
            <a:ext cx="4105440" cy="1557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’s one example. It’s called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Life, and is based o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ction of land in New Yor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2636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yberworld addresse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You’ll find Second Life at 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secondlife.com#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nother neat world is 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www.whyville.net/smmk/ni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For an overview on lots of others, have a look at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4"/>
              </a:rPr>
              <a:t>www.virtualworldsreview.com</a:t>
            </a: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5"/>
              </a:rPr>
              <a:t>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Your Mini-Quest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Design a fantastic cyber-community in which you would enjoy being involved, and develop some ongoing activities and the rules of engagement for this group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2636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Some Guiding Questions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920" y="2104560"/>
            <a:ext cx="756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What forms of cyber-community already exist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Would cyber-communities appeal to you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If you created a cyber community, what form would it take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ic Groundrules of a cyber communit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nyone can join (in most case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 specific interest usually drives its exist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n online virtual world is sometimes the basis for the commun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All members can contribute to various blogs, and sometimes can contribute to the online development of the cyberworl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thics and respect for all members are importa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The Journey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7706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Collate some key info on Second Life. In groups of 3, use a Simple Jigsaw to respond to these question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Q. What’s the basic structur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Q. What encourages people to joi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Q. Why could you be interested in joining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The Journey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8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Draw up a Venn Diagram, and compare present day communities, with a cybercommun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et up a Paired Interview, and use these question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Q.1. Would cyber-communities appeal to you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Q.2. If you created a cyber community, what form would it take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Record all of your answ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Ryan</cp:lastModifiedBy>
  <dcterms:modified xsi:type="dcterms:W3CDTF">2007-04-30T22:32:20Z</dcterms:modified>
  <cp:revision>26</cp:revision>
  <dc:subject/>
  <dc:title>PowerPoint Presentation</dc:title>
</cp:coreProperties>
</file>